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E8E3219-5B5F-4487-B3E9-928B9FB37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449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11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1A0C8E3B-9ED0-4A48-89CF-9BD87661B19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ask.googlepages.com/" TargetMode="External"/><Relationship Id="rId2" Type="http://schemas.openxmlformats.org/officeDocument/2006/relationships/hyperlink" Target="http://kask.googlepag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94840"/>
            <a:ext cx="7772400" cy="320760"/>
            <a:chOff x="914400" y="294840"/>
            <a:chExt cx="7772400" cy="320760"/>
          </a:xfrm>
        </p:grpSpPr>
        <p:sp>
          <p:nvSpPr>
            <p:cNvPr id="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685360" y="29484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5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6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7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176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95440" y="4871880"/>
            <a:ext cx="3405240" cy="636840"/>
            <a:chOff x="2395440" y="4871880"/>
            <a:chExt cx="3405240" cy="636840"/>
          </a:xfrm>
        </p:grpSpPr>
        <p:sp>
          <p:nvSpPr>
            <p:cNvPr id="179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9544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65480" y="4213080"/>
            <a:ext cx="1310040" cy="586080"/>
            <a:chOff x="4965480" y="4213080"/>
            <a:chExt cx="1310040" cy="586080"/>
          </a:xfrm>
        </p:grpSpPr>
        <p:sp>
          <p:nvSpPr>
            <p:cNvPr id="182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654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185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388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21000" y="3835440"/>
            <a:ext cx="749520" cy="561960"/>
            <a:chOff x="4221000" y="3835440"/>
            <a:chExt cx="749520" cy="561960"/>
          </a:xfrm>
        </p:grpSpPr>
        <p:sp>
          <p:nvSpPr>
            <p:cNvPr id="188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2100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014200" y="3811680"/>
            <a:ext cx="1943280" cy="463320"/>
            <a:chOff x="2014200" y="3811680"/>
            <a:chExt cx="1943280" cy="463320"/>
          </a:xfrm>
        </p:grpSpPr>
        <p:sp>
          <p:nvSpPr>
            <p:cNvPr id="191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1420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9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0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0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6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685960" y="226188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9620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94440" y="228564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75000" y="227664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0032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404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3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ja xs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mantiline koosvõime, andmete esitus ja rd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080" y="371160"/>
            <a:ext cx="7770960" cy="320760"/>
            <a:chOff x="838080" y="371160"/>
            <a:chExt cx="7770960" cy="320760"/>
          </a:xfrm>
        </p:grpSpPr>
        <p:sp>
          <p:nvSpPr>
            <p:cNvPr id="5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07600" y="37116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3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246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1168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952880" y="3268800"/>
            <a:ext cx="1447920" cy="777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mantiline koosvõim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silmas andmete (nimed, arvud, kuupäevad, tekstid jne) sisulist kättesaamist edasist töötlemist võimaldaval kujul, mitte lihtsalt nende kuvamist näiteks gif-piltide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bjekt,  omadus,  väärtus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objekt,väärtu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371160"/>
            <a:ext cx="7770960" cy="320760"/>
            <a:chOff x="838080" y="371160"/>
            <a:chExt cx="7770960" cy="320760"/>
          </a:xfrm>
        </p:grpSpPr>
        <p:sp>
          <p:nvSpPr>
            <p:cNvPr id="6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07600" y="37116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6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7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7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7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7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066680" y="4028760"/>
            <a:ext cx="838440" cy="131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190680" y="3495240"/>
            <a:ext cx="399960" cy="3999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571560"/>
            <a:ext cx="38124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29400" y="2352600"/>
            <a:ext cx="38088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10200" y="2352600"/>
            <a:ext cx="17136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124000" y="2276280"/>
            <a:ext cx="17136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2352600"/>
            <a:ext cx="1800" cy="247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2276280"/>
            <a:ext cx="30492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4638600"/>
            <a:ext cx="144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5477040"/>
            <a:ext cx="1440" cy="171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19680" y="5334120"/>
            <a:ext cx="85716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2276640"/>
            <a:ext cx="609840" cy="6285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0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ne viis edasiminekuks semantilise koosvõime osa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me esitada andmeid veebilehel selliselt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d oleks harilikul (suvalisel) inimloetaval html-kujul tekstidena. xml formaat ei ole tingimata vajalik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rilikul html-lehel olevate andmejuppide ümber pannakse RDFa formaadis metainfo, mis ütleb automaattöötlejale, mis andmetega on tege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av metainfo ei muuda lehe algset väljanägemist ja üldjuhul ei dubleeri lehel juba olevat info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 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36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otatsioonide  kasutusstenaariu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used annoteerivad oma harilikke veebilehti 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ortaalid loevad asutuste lehtedelt regulaarselt neid huvitavat infot ja lisavad seda om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ortaalid kasutavad oma andmebaasi erikuvamiste ja eripäringute jaok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96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>
            <a:off x="2658600" y="1905120"/>
            <a:ext cx="70164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668240" y="3276720"/>
            <a:ext cx="549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024520" y="3352680"/>
            <a:ext cx="164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11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343320" y="2580840"/>
            <a:ext cx="3295440" cy="1390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2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tiny serverit näiten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lambda.ee/images/8/89/Itsissejuhatus_tiny.zi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6640" y="372960"/>
            <a:ext cx="7769160" cy="316080"/>
            <a:chOff x="836640" y="372960"/>
            <a:chExt cx="7769160" cy="316080"/>
          </a:xfrm>
        </p:grpSpPr>
        <p:sp>
          <p:nvSpPr>
            <p:cNvPr id="132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cgi näiteid tiny serveri pea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sh?as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adder?2&amp;3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py?a=2&amp;b=1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6640" y="372960"/>
            <a:ext cx="7769160" cy="316080"/>
            <a:chOff x="836640" y="372960"/>
            <a:chExt cx="7769160" cy="316080"/>
          </a:xfrm>
        </p:grpSpPr>
        <p:sp>
          <p:nvSpPr>
            <p:cNvPr id="137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Kust lugeda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 erimiskee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4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4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